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7.wmf" ContentType="image/x-wmf"/>
  <Override PartName="/ppt/media/image7.jpeg" ContentType="image/jpeg"/>
  <Override PartName="/ppt/media/image20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6.jpeg" ContentType="image/jpeg"/>
  <Override PartName="/ppt/media/image10.png" ContentType="image/png"/>
  <Override PartName="/ppt/media/image5.jpeg" ContentType="image/jpeg"/>
  <Override PartName="/ppt/media/image23.jpeg" ContentType="image/jpeg"/>
  <Override PartName="/ppt/media/image18.jpeg" ContentType="image/jpeg"/>
  <Override PartName="/ppt/media/image19.jpeg" ContentType="image/jpeg"/>
  <Override PartName="/ppt/media/image1.jpeg" ContentType="image/jpeg"/>
  <Override PartName="/ppt/media/image22.png" ContentType="image/png"/>
  <Override PartName="/ppt/media/image21.jpeg" ContentType="image/jpeg"/>
  <Override PartName="/ppt/media/image16.png" ContentType="image/png"/>
  <Override PartName="/ppt/media/image14.png" ContentType="image/png"/>
  <Override PartName="/ppt/media/image24.jpeg" ContentType="image/jpeg"/>
  <Override PartName="/ppt/media/image15.png" ContentType="image/png"/>
  <Override PartName="/ppt/media/image3.jpeg" ContentType="image/jpeg"/>
  <Override PartName="/ppt/media/image2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dt" idx="37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move the slid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ftr" idx="38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6"/>
          <p:cNvSpPr>
            <a:spLocks noGrp="1"/>
          </p:cNvSpPr>
          <p:nvPr>
            <p:ph type="sldNum" idx="39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18355-96DA-497E-8CF9-D6ECC0DB22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day’s objective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come aware of the essential components of  the </a:t>
            </a:r>
            <a:r>
              <a:rPr b="0" lang="es-MX" sz="1200" spc="-1" strike="noStrike">
                <a:solidFill>
                  <a:srgbClr val="000000"/>
                </a:solidFill>
                <a:latin typeface="Calibri"/>
              </a:rPr>
              <a:t>Estrellita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progra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arn how to provide reading support at hom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200" spc="-1" strike="noStrike">
                <a:solidFill>
                  <a:srgbClr val="000000"/>
                </a:solidFill>
                <a:latin typeface="Calibri"/>
              </a:rPr>
              <a:t>El propósito de hoy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s-MX" sz="1200" spc="-1" strike="noStrike">
                <a:solidFill>
                  <a:srgbClr val="000000"/>
                </a:solidFill>
                <a:latin typeface="Calibri"/>
              </a:rPr>
              <a:t>Es conocer los componentes esenciales del programa de Estrelli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s-MX" sz="1200" spc="-1" strike="noStrike">
                <a:solidFill>
                  <a:srgbClr val="000000"/>
                </a:solidFill>
                <a:latin typeface="Calibri"/>
              </a:rPr>
              <a:t>Aprenderán como apoyar a su hijo/hija con la lectura en el hoga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C6C95-624E-47AE-9411-9513B05247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w  we’re going to be shifting into the second component of </a:t>
            </a:r>
            <a:r>
              <a:rPr b="0" lang="es-MX" sz="1200" spc="-1" strike="noStrike">
                <a:solidFill>
                  <a:srgbClr val="000000"/>
                </a:solidFill>
                <a:latin typeface="Calibri"/>
              </a:rPr>
              <a:t>Estrellita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 Blending: </a:t>
            </a:r>
            <a:r>
              <a:rPr b="0" lang="es-MX" sz="1200" spc="-1" strike="noStrike">
                <a:solidFill>
                  <a:srgbClr val="000000"/>
                </a:solidFill>
                <a:latin typeface="Calibri"/>
              </a:rPr>
              <a:t>silabas, palabras, y oracion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s-MX" sz="1200" spc="-1" strike="noStrike">
                <a:solidFill>
                  <a:srgbClr val="000000"/>
                </a:solidFill>
                <a:latin typeface="Calibri"/>
              </a:rPr>
              <a:t>Ahora vamos hablar sobre el segundo componente de Estrelli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s-MX" sz="1200" spc="-1" strike="noStrike">
                <a:solidFill>
                  <a:srgbClr val="000000"/>
                </a:solidFill>
                <a:latin typeface="Calibri"/>
              </a:rPr>
              <a:t>Al mezclar los sonidos iniciales con otros sonidos  se forman s</a:t>
            </a:r>
            <a:r>
              <a:rPr b="0" i="1" lang="es-MX" sz="1200" spc="-1" strike="noStrike">
                <a:solidFill>
                  <a:srgbClr val="000000"/>
                </a:solidFill>
                <a:latin typeface="Georgia"/>
              </a:rPr>
              <a:t>í</a:t>
            </a:r>
            <a:r>
              <a:rPr b="0" i="1" lang="es-MX" sz="1200" spc="-1" strike="noStrike">
                <a:solidFill>
                  <a:srgbClr val="000000"/>
                </a:solidFill>
                <a:latin typeface="Calibri"/>
              </a:rPr>
              <a:t>labas, palabras y oraciones, por ejemplo el sonido de “a” cuando se forma con los sonidos de “jo” forma la palabra “ajo.”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200" spc="-1" strike="noStrike">
                <a:solidFill>
                  <a:srgbClr val="000000"/>
                </a:solidFill>
                <a:latin typeface="Calibri"/>
              </a:rPr>
              <a:t>Oración:  “Yo tengo un ajo.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61DB0-AA36-4D7F-9050-4836CB1DF3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plain to parents that this system of monitoring student progress is structured the same as in </a:t>
            </a:r>
            <a:r>
              <a:rPr b="0" lang="es-MX" sz="1200" spc="-1" strike="noStrike">
                <a:solidFill>
                  <a:srgbClr val="000000"/>
                </a:solidFill>
                <a:latin typeface="Calibri"/>
              </a:rPr>
              <a:t>“Sonidos Iniciales.”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The Benefits 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allows students to participate at their own rate. (Teachers respond to students at their point of need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udents know their own learning objective (developing independence). (Teachers create an individualized plan for each studen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ows teacher to monitor student progr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00"/>
                </a:solidFill>
                <a:latin typeface="Calibri"/>
              </a:rPr>
              <a:t>Los Beneficios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200" spc="-1" strike="noStrike">
                <a:solidFill>
                  <a:srgbClr val="000000"/>
                </a:solidFill>
                <a:latin typeface="Calibri"/>
              </a:rPr>
              <a:t>Permite que los estudiantes participen a su propio nive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200" spc="-1" strike="noStrike">
                <a:solidFill>
                  <a:srgbClr val="000000"/>
                </a:solidFill>
                <a:latin typeface="Calibri"/>
              </a:rPr>
              <a:t>Los estudiantes saben su propias metas de aprendizaj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200" spc="-1" strike="noStrike">
                <a:solidFill>
                  <a:srgbClr val="000000"/>
                </a:solidFill>
                <a:latin typeface="Calibri"/>
              </a:rPr>
              <a:t>Permite que la maestra supervise el progreso del alumn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B0EF4-8D0E-400F-8C92-B7BDF79202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program also has a writing component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many aspects of writing addressed i.e.  printing upper/lowercase letters, forming sounds, and spelling dic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ways allow your child to have a copy of the </a:t>
            </a:r>
            <a:r>
              <a:rPr b="0" i="1" lang="es-MX" sz="1200" spc="-1" strike="noStrike">
                <a:solidFill>
                  <a:srgbClr val="000000"/>
                </a:solidFill>
                <a:latin typeface="Calibri"/>
              </a:rPr>
              <a:t>Sonidos Iniciales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art to reference when writ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s-MX" sz="1200" spc="-1" strike="noStrike">
                <a:solidFill>
                  <a:srgbClr val="000000"/>
                </a:solidFill>
                <a:latin typeface="Calibri"/>
              </a:rPr>
              <a:t>Este programa también tiene el componente de apoyo en la escritura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s-MX" sz="1200" spc="-1" strike="noStrike">
                <a:solidFill>
                  <a:srgbClr val="000000"/>
                </a:solidFill>
                <a:latin typeface="Calibri"/>
              </a:rPr>
              <a:t>Hay muchos aspectos de la escritura. Por ejemplo los estudiantes comienzan a escribir los sonidos que están estudiando para formar palabras y oraciones. También ayuda distinguir las letras minúsculas y may</a:t>
            </a:r>
            <a:r>
              <a:rPr b="0" i="1" lang="es-MX" sz="1200" spc="-1" strike="noStrike">
                <a:solidFill>
                  <a:srgbClr val="000000"/>
                </a:solidFill>
                <a:latin typeface="Georgia"/>
              </a:rPr>
              <a:t>ú</a:t>
            </a:r>
            <a:r>
              <a:rPr b="0" i="1" lang="es-MX" sz="1200" spc="-1" strike="noStrike">
                <a:solidFill>
                  <a:srgbClr val="000000"/>
                </a:solidFill>
                <a:latin typeface="Calibri"/>
              </a:rPr>
              <a:t>scula, para poder usarlas apropiadament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s-MX" sz="1200" spc="-1" strike="noStrike">
                <a:solidFill>
                  <a:srgbClr val="000000"/>
                </a:solidFill>
                <a:latin typeface="Calibri"/>
              </a:rPr>
              <a:t>Su hijo/a  debe tener una copia de los Sonidos Iniciales para apoyarlos durante la escritur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466F2-C7DE-4B88-94FB-9FCEB3709C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mphasize to parents that a team effort is necessary to support academic success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7B2AF-14C9-4B29-ABD2-448C656419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1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36552-2C8D-4B5A-BE21-C2E575452B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o over the agenda with the paren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5F748-B320-40F8-B6E9-CF2334D262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7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rpose is to activate the parents’ prior knowledge regarding a childhood memory of a special reading experien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ve parents share with someone and then ask for volunteers to share ou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89999-6452-4858-B575-AF5F332B37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an accelerated, systematic, &amp; explicit phonics progra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the key to unlocking decoding skills for beginning reader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MX" sz="1200" spc="-1" strike="noStrike">
                <a:solidFill>
                  <a:srgbClr val="000000"/>
                </a:solidFill>
                <a:latin typeface="Calibri"/>
              </a:rPr>
              <a:t>Estrellita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is organized by </a:t>
            </a:r>
            <a:r>
              <a:rPr b="0" lang="es-MX" sz="1200" spc="-1" strike="noStrike">
                <a:solidFill>
                  <a:srgbClr val="000000"/>
                </a:solidFill>
                <a:latin typeface="Calibri"/>
              </a:rPr>
              <a:t>Sonidos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and Blending (which includes: </a:t>
            </a:r>
            <a:r>
              <a:rPr b="0" lang="es-MX" sz="12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es-MX" sz="1200" spc="-1" strike="noStrike">
                <a:solidFill>
                  <a:srgbClr val="000000"/>
                </a:solidFill>
                <a:latin typeface="Georgia"/>
              </a:rPr>
              <a:t>í</a:t>
            </a:r>
            <a:r>
              <a:rPr b="0" lang="es-MX" sz="1200" spc="-1" strike="noStrike">
                <a:solidFill>
                  <a:srgbClr val="000000"/>
                </a:solidFill>
                <a:latin typeface="Calibri"/>
              </a:rPr>
              <a:t>laba, palabra y oración.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s-ES" sz="1200" spc="-1" strike="noStrike">
                <a:solidFill>
                  <a:srgbClr val="000000"/>
                </a:solidFill>
                <a:latin typeface="Calibri"/>
              </a:rPr>
              <a:t>Es un programa acelerado, sistemático, &amp; explícito de la lectura fonética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s-ES" sz="1200" spc="-1" strike="noStrike">
                <a:solidFill>
                  <a:srgbClr val="000000"/>
                </a:solidFill>
                <a:latin typeface="Calibri"/>
              </a:rPr>
              <a:t>Es la llave que habré las habilidades a los lectores principiantes para aprendan a le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s-ES" sz="1200" spc="-1" strike="noStrike">
                <a:solidFill>
                  <a:srgbClr val="000000"/>
                </a:solidFill>
                <a:latin typeface="Calibri"/>
              </a:rPr>
              <a:t>Estrellita está organizado de dos componen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s-ES" sz="1200" spc="-1" strike="noStrike">
                <a:solidFill>
                  <a:srgbClr val="000000"/>
                </a:solidFill>
                <a:latin typeface="Calibri"/>
              </a:rPr>
              <a:t>-  los Sonidos Iniciales 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s-ES" sz="1200" spc="-1" strike="noStrike">
                <a:solidFill>
                  <a:srgbClr val="000000"/>
                </a:solidFill>
                <a:latin typeface="Calibri"/>
              </a:rPr>
              <a:t>-  la mezcla de Sonidos Iniciales con otros sonidos  (la mezcla de sonidos van formando: </a:t>
            </a:r>
            <a:r>
              <a:rPr b="0" i="1" lang="es-MX" sz="12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i="1" lang="es-MX" sz="1200" spc="-1" strike="noStrike">
                <a:solidFill>
                  <a:srgbClr val="000000"/>
                </a:solidFill>
                <a:latin typeface="Georgia"/>
              </a:rPr>
              <a:t>í</a:t>
            </a:r>
            <a:r>
              <a:rPr b="0" i="1" lang="es-MX" sz="1200" spc="-1" strike="noStrike">
                <a:solidFill>
                  <a:srgbClr val="000000"/>
                </a:solidFill>
                <a:latin typeface="Calibri"/>
              </a:rPr>
              <a:t>labas, palabras y oraciones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19884-4445-49DA-B935-FAB9CFA267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8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rpose of this slide is to tie phonic skills into meaningful language experienc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es-MX" sz="1200" spc="-1" strike="noStrike">
                <a:solidFill>
                  <a:srgbClr val="000000"/>
                </a:solidFill>
                <a:latin typeface="Calibri"/>
              </a:rPr>
              <a:t>Estrellita ayuda a incrementar las habilidades de la lectura fonétic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es-MX" sz="1200" spc="-1" strike="noStrike">
                <a:solidFill>
                  <a:srgbClr val="000000"/>
                </a:solidFill>
                <a:latin typeface="Calibri"/>
              </a:rPr>
              <a:t>Apoyen a sus hijos en las tareas.  Por ejemplo, identificando los sonidos iniciales al nombrar objetos que se encuentran en casa.  Así pueden conectar el programa Estrellita con la lectura en cas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es-MX" sz="1200" spc="-1" strike="noStrike">
                <a:solidFill>
                  <a:srgbClr val="000000"/>
                </a:solidFill>
                <a:latin typeface="Calibri"/>
              </a:rPr>
              <a:t>Las experiencias serán positivas para los niños en el proceso de aprender a le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D6134-40B5-4943-9647-2A7FA2B2CE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w,  I’ll begin by discussing the 1</a:t>
            </a:r>
            <a:r>
              <a:rPr b="0" lang="en-US" sz="1200" spc="-1" strike="noStrike" baseline="30000">
                <a:solidFill>
                  <a:srgbClr val="000000"/>
                </a:solidFill>
                <a:latin typeface="Calibri"/>
              </a:rPr>
              <a:t>st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component of </a:t>
            </a:r>
            <a:r>
              <a:rPr b="0" lang="es-MX" sz="1200" spc="-1" strike="noStrike">
                <a:solidFill>
                  <a:srgbClr val="000000"/>
                </a:solidFill>
                <a:latin typeface="Calibri"/>
              </a:rPr>
              <a:t>Estrellita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Calibri"/>
              </a:rPr>
              <a:t>Refer to </a:t>
            </a:r>
            <a:r>
              <a:rPr b="0" lang="es-MX" sz="1200" spc="-1" strike="noStrike" u="sng">
                <a:solidFill>
                  <a:srgbClr val="000000"/>
                </a:solidFill>
                <a:uFillTx/>
                <a:latin typeface="Calibri"/>
              </a:rPr>
              <a:t>Sonidos Iniciales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Calibri"/>
              </a:rPr>
              <a:t>chart: deconstruct the  char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icture to sound (reinforces meaning and sound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d vertical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’s divided into segments, each containing a group of letters taught together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int out: Sound budd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wer case letters are emphasized because these are the letters students will encounter most when they’re read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200" spc="-1" strike="noStrike">
                <a:solidFill>
                  <a:srgbClr val="000000"/>
                </a:solidFill>
                <a:latin typeface="Calibri"/>
              </a:rPr>
              <a:t>Ahora, vamos a ver el primer componente de Estrellita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s-ES" sz="1200" spc="-1" strike="noStrike">
                <a:solidFill>
                  <a:srgbClr val="000000"/>
                </a:solidFill>
                <a:latin typeface="Calibri"/>
              </a:rPr>
              <a:t>Vean la imagen y la letra junto a ella. Se pronuncia el sonido inicial de la imag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s-ES" sz="1200" spc="-1" strike="noStrike">
                <a:solidFill>
                  <a:srgbClr val="000000"/>
                </a:solidFill>
                <a:latin typeface="Calibri"/>
              </a:rPr>
              <a:t>Se lee verticalment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s-ES" sz="1200" spc="-1" strike="noStrike">
                <a:solidFill>
                  <a:srgbClr val="000000"/>
                </a:solidFill>
                <a:latin typeface="Calibri"/>
              </a:rPr>
              <a:t>Se divide en segmentos. Cada segmento contiene un grupo de letras que se ense</a:t>
            </a:r>
            <a:r>
              <a:rPr b="0" i="1" lang="es-ES" sz="1200" spc="-1" strike="noStrike">
                <a:solidFill>
                  <a:srgbClr val="000000"/>
                </a:solidFill>
                <a:latin typeface="Calibri"/>
                <a:ea typeface="Calibri"/>
              </a:rPr>
              <a:t>ñ</a:t>
            </a:r>
            <a:r>
              <a:rPr b="0" i="1" lang="es-ES" sz="1200" spc="-1" strike="noStrike">
                <a:solidFill>
                  <a:srgbClr val="000000"/>
                </a:solidFill>
                <a:latin typeface="Calibri"/>
              </a:rPr>
              <a:t>an al mismo tiemp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s-ES" sz="1200" spc="-1" strike="noStrike">
                <a:solidFill>
                  <a:srgbClr val="000000"/>
                </a:solidFill>
                <a:latin typeface="Calibri"/>
              </a:rPr>
              <a:t>Contiene letras compa</a:t>
            </a:r>
            <a:r>
              <a:rPr b="0" i="1" lang="es-ES" sz="1200" spc="-1" strike="noStrike">
                <a:solidFill>
                  <a:srgbClr val="000000"/>
                </a:solidFill>
                <a:latin typeface="Calibri"/>
                <a:ea typeface="Calibri"/>
              </a:rPr>
              <a:t>ñ</a:t>
            </a:r>
            <a:r>
              <a:rPr b="0" i="1" lang="es-ES" sz="1200" spc="-1" strike="noStrike">
                <a:solidFill>
                  <a:srgbClr val="000000"/>
                </a:solidFill>
                <a:latin typeface="Calibri"/>
              </a:rPr>
              <a:t>eras.   Por ejemplo s, z, c, que producen el mismo sonid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s-ES" sz="1200" spc="-1" strike="noStrike">
                <a:solidFill>
                  <a:srgbClr val="000000"/>
                </a:solidFill>
                <a:latin typeface="Calibri"/>
              </a:rPr>
              <a:t>Se acentúan las letras minúsculas porque éstas son las que los estudiantes encontrarán la mayoría de las veces cuando están leyend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3A409-A0ED-4BD2-8C49-71F933D5A8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MX" sz="1200" spc="-1" strike="noStrike">
                <a:solidFill>
                  <a:srgbClr val="000000"/>
                </a:solidFill>
                <a:latin typeface="Calibri"/>
              </a:rPr>
              <a:t>Estrellita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incorporates a variety of modalities for learn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emphasizes the visual, the auditory, and the kinestheti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s-MX" sz="1200" spc="-1" strike="noStrike">
                <a:solidFill>
                  <a:srgbClr val="000000"/>
                </a:solidFill>
                <a:latin typeface="Calibri"/>
              </a:rPr>
              <a:t>Estrellita incorpora las diferentes modalidades que ayudan a facilitar el aprendizaj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777E2-41C9-468A-8533-76D404F5AC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tive participation: everyone stands up and chants with hand movement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tribute </a:t>
            </a:r>
            <a:r>
              <a:rPr b="0" i="1" lang="es-MX" sz="1200" spc="-1" strike="noStrike">
                <a:solidFill>
                  <a:srgbClr val="000000"/>
                </a:solidFill>
                <a:latin typeface="Calibri"/>
              </a:rPr>
              <a:t>Sonidos Iniciales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Individual Student Chart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each par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D4A90-A1E0-4538-BE37-94BB88E257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The Benefits of </a:t>
            </a:r>
            <a:r>
              <a:rPr b="1" lang="es-MX" sz="1200" spc="-1" strike="noStrike">
                <a:solidFill>
                  <a:srgbClr val="000000"/>
                </a:solidFill>
                <a:latin typeface="Calibri"/>
              </a:rPr>
              <a:t>Estrellita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allows students to participate at their own rate. (Teachers respond to students at their point of need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udents know their own learning objective (developing independence). (Teachers create an individualized plan for each student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ows teacher to monitor student progr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alibri"/>
              </a:rPr>
              <a:t>Los Beneficios de Estrellita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s-MX" sz="1200" spc="-1" strike="noStrike">
                <a:solidFill>
                  <a:srgbClr val="000000"/>
                </a:solidFill>
                <a:latin typeface="Calibri"/>
              </a:rPr>
              <a:t>Permite que los estudiantes participen a su propio nive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s-MX" sz="1200" spc="-1" strike="noStrike">
                <a:solidFill>
                  <a:srgbClr val="000000"/>
                </a:solidFill>
                <a:latin typeface="Calibri"/>
              </a:rPr>
              <a:t>Los estudiantes tendrán metas individuales de acuerdo al progreso de cada uno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s-MX" sz="1200" spc="-1" strike="noStrike">
                <a:solidFill>
                  <a:srgbClr val="000000"/>
                </a:solidFill>
                <a:latin typeface="Calibri"/>
              </a:rPr>
              <a:t>Permite que la maestra supervise el progreso del alumn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27C71-E4EC-4E89-8AD9-4AB3DB1339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F7804-74A5-43E1-99A5-B0CB37FD8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988B7-792E-4C55-90E8-CA2BEC026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0C7708F-C84A-4185-84A5-39BAC5FDB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952A0E0-7470-4543-976F-403E4C2AD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15ACCAE-4148-4E96-A549-84EFD5B90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FBE7ED3-7B06-4AF0-942C-3299DB2D4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BE2C4B9-FD0B-4CED-9170-9DFE8FC71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38F2738-F23C-437A-A860-B34C6E96E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DE5E802-7D4B-4CFB-A361-FF1F00A5B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C23E053-1358-4B50-9E27-FF5BE7A88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1536D5E-2C44-419A-AEB4-164407F77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AB502CA-C99D-4E52-8B41-C7A600AE1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29381-120A-4BBA-B988-0D718D71F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3771E57-9B71-4F9D-AC06-73E051238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C664946-A0EE-457E-8704-6AA139B49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81AC206-7BF6-429C-AF24-64D3A796A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865A7ED-E568-4563-A6E8-4928F9BAF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999967E-9671-4868-BE9E-7000D8FCC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EDC942B-CD42-4CA5-B56B-3A9275CE3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289279F-C368-42E7-A9C1-D54BD8978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8541F31-95D0-4492-A1ED-817724C99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02C378D-D1BA-4068-A578-25FD51FB0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C94B3B3-4F51-4A04-99DB-6D348AEC4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626A5-FFFA-4521-B062-1A7956786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FD55015-C60E-4FF4-9A25-BC2958699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6461A9-2747-422E-A8FB-3832E79B4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8E2640-F80E-4995-B170-F626DA10D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3B2513-8215-467E-BFE5-41B22DDC0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277524-1C33-44AD-91EA-808B47580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9DA3A7-DDD1-4DD0-AA45-32E6DA518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F7585D-9C41-41C1-91A7-EB48151AD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45C65B-7FE3-41E0-AA45-3D1C26BD2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33748C-0BBB-4677-95BB-64BE096D3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3E75C3-43F8-4144-AD49-FF0521E24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B9F75-3AF5-4ACA-853F-90E4FFBD5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E572D4-8A66-443A-BD12-E35069084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A47E55-32CF-4B5C-A9E4-A14483723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746242-483D-4740-B3DE-1B4369A94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A257558-2C3C-4A38-8BE9-80A6EA53B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51E3393-9603-4AE7-849D-46EE3375D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B33D103-3369-405B-924E-F28485D4D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3106B3E-635D-4CA6-BD97-D0691B7D2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E927588-C341-486A-81A5-C2F31F516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244501F-0606-4B72-B490-95A3D5DD7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4401221-BB93-46DD-A82E-BAAFB092C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24003-EF80-4059-B31D-1E4DDED4C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231BC93-E5EE-4EDE-A3E6-C601E2925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0D4FFAC-AD03-4F24-B4C8-FCF461694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D6DE203-2D36-445A-894C-5AECF5E60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1A4A6F5-4075-4179-8864-C6A4C14EC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C357123-0EF1-4C6C-B84A-1D582800F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2B01F-4661-4818-828A-3C41C6525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50E5D-7DF8-405C-B74A-0B02D83A4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D5586-2343-4EC0-9BCF-A0D2E1411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45BCE-9C76-4EF0-A078-3CBFE21B8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EBF29-DDB7-4EA2-9529-89D0844BB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34F2B-59EE-41CA-8F41-C463977A4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01958-9F58-4C48-9E42-C6BF705C3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B31C4-D97B-4FA9-9555-4F3F0D546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C52D9-42BD-4ED4-B6DF-F181D66FB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49D76-3A8C-4242-9536-2AE0DEB1B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64590-BB4F-44B9-8466-89FA0F376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23486A-1C71-4249-8287-9762C0BED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25080C-5C7E-4AC6-86FB-9318944B3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FC50C0-694C-4A2F-B15A-7D8B520C0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6FD976-7045-4302-81E7-26E1A8015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35573C-36DC-4770-8663-E569CA150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98C00-BD78-4A3F-AB81-E4AB0D4EA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FA412D-BCB8-4A99-93CE-4FA9EDAEE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8DFC53-5809-4579-AAD1-770A12FF1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5CF575-6621-4EB1-B8DD-6408C8D1E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C5FA1A-442A-4644-8F4C-6561EE7CA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EDC696-D772-4FDF-8839-73E526AE7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994E98-C85F-4B2B-8160-DFF80D380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14C233-BE4D-47EB-A4E6-31F324972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ED4029-B66D-4242-9D90-64ECA8BFE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51B371-3FEF-4730-B20C-91A39C668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23C386-3533-4C06-98C5-C1DB5A097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C22E9-A60B-4D0A-AD42-56C438FA3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36049B-5118-47BB-A0D4-FD9B4BB0F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49D5D5-257B-447E-88D1-B3F369EFF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3A4615-E0FD-44F3-9805-E2EADE2CB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FDC8DC-E0C5-478B-B73E-6B3D0FC30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C146A4-C011-4FF1-A58F-F8A1A030A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975CFE-DC76-43C7-8E09-AEC078FA2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BD255D-49C7-4BB9-8AB3-5663AD541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422B75-EE51-4FB6-8C36-9D1C3B593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BC7C62-D28D-4943-9E25-4FF7EC6C7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527DE6-06A5-4D85-8782-B2AA9C59E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A8F54-FF12-4DE6-86BC-590AFC08D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D79F86-ABF3-4227-A391-D4A8D328C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D71AB4-EDF6-43FE-8CB3-B2D995E39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83ED40-C5BD-4646-87BF-9F0F8E7C6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1EE4CC-70CF-4BB2-9FE3-8A7929843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0608C6-A4D0-404E-AE4D-27599B211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CCE22F-797C-47F2-9D47-9784524F6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E5C4D8-61D7-4024-9301-70C2ABC47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722513-288F-4801-85F6-1C25EA6BE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DD2EA9-1DD9-4132-ACCE-30B25E66B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00FF66-248F-42EB-817D-2B8867DB6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451DA-E842-411B-B517-2CB524E43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80FCDD-02EC-4086-BB50-9B75CBBA4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CA25F8-6FA4-4898-BBCF-EA2B1EE8B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BF2542-099A-4AE3-992A-C80117184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5AA05D-F0D0-41AF-9132-3E4957626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332E56-C547-4906-8452-4A29D6E35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DAAF79-CC16-49BC-857C-F53E21E71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7252E6-3466-4DCA-94DC-23B43DF3E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DA5B35-7176-49C4-A9F6-D6E97A138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7A641C-F574-4311-A649-044EFCB12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E8A7A6-25AF-4EFA-9067-88D1E9AD5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D2B56-6FEB-452B-817D-7CC62FE59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537A9D-9EE3-4572-A5DD-B668CB44B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4E191F-AF7B-4AFD-BB9B-0574CD026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534A57-280E-48E9-8E9F-C60BBC96C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EE3AE3-4BF0-40EC-912B-14D0BEDE3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04A2E2-36B3-4E5A-BF00-F4DB7EC8D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AB4E3A-8825-4011-89ED-D06BC4943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D8CB73-2144-472C-A167-4129F2184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C1226D-8774-407F-BC3C-69A3B79C9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B62252-6EF7-4073-9CD2-B9E1CE987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A84578-7E79-48D6-8EED-13B7A83C2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A008F-DBD2-4D0B-9F50-1E7EEE285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19FDBC-69DB-46F4-9C42-EA2AB73CD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BBB7FB-1644-46D8-B598-64438625F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A5687E-D7DD-4257-BEF4-5BABFAA85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6A3F7F-ABB3-4916-80A1-156F5F2C0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8272BB-2FC6-4A27-B05D-F9D98EA1C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236D17-8DE6-46BB-AEC0-BA7046619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34E78B-CB11-42B1-878F-0EFF5F337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7EEA04-7FE0-45B2-81D8-8A1C54B0A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E2868B-A1D4-47E3-BA39-BB473283C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6DDCBD-A98D-454F-BB67-2FD7530F8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62C8C-FF2C-474A-9FEC-B41892E91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62E91F-D772-4C81-B822-0BDA2E205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605895-9B62-402E-8864-8EB6105E5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22453F-3B1B-473F-9F16-7B33EA2C4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58EB0D-48CA-4E0D-B825-F679C925A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A2DF24-7E16-484D-9768-D7B00AAC6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C60167-8053-4ACF-BA52-E22C05B72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05528F-A997-400F-9DE2-EB0EFDC51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48E04EC-50C7-4F85-A8B3-CACE7AE84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2058822-8A9C-4CFA-9B9B-348F65E59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211A9D8-84A5-4389-A9AB-7F3B83EC7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AFB8A-B3D3-4827-89A1-DFD014C22F07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Straight Connector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25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2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Oval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Oval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748B0-A62E-4B02-8C47-2EBFACC262C1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26BCB-9849-4F3E-AFA9-D7964D50A3E4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tangle 21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25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Straight Connector 26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Oval 27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Oval 28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2532B-59E4-4CCF-8354-58B78EAC5FE8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21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23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27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15DDD-9023-4DC2-9253-30785FE26C83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2B14E-8B0E-43BB-8FB4-6B6471B9F3CB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21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23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24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25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26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28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29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30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744A5-ED25-4BC9-ACAB-F0AD610423DA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traight Connector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02CBD-6B87-4C19-9772-6C07804CEAED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traight Connector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21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24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25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26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27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l 29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l 30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5F4CD-F214-4724-BF67-50CA8D486809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3E4A2-9782-44F6-8F56-08D9A6420ADC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25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200E1-4EEB-44D7-8F65-BF614432B19A}" type="slidenum">
              <a:rPr b="0" lang="en-US" sz="16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23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25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Straight Connector 27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Oval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Oval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C1252-84E5-4B39-B6A3-CA6C86790F89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49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09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16349"/>
                </a:solidFill>
                <a:latin typeface="Georgia"/>
              </a:rPr>
              <a:t>Estrellita</a:t>
            </a: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4" name=""/>
          <p:cNvSpPr txBox="1"/>
          <p:nvPr/>
        </p:nvSpPr>
        <p:spPr>
          <a:xfrm>
            <a:off x="1066320" y="1523520"/>
            <a:ext cx="7620120" cy="449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11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                           </a:t>
            </a:r>
            <a:r>
              <a:rPr b="1" lang="en-US" sz="2700" spc="-1" strike="noStrike">
                <a:solidFill>
                  <a:srgbClr val="d16349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                                                             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     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     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                                                       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                                                               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                                                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15" name="Picture 7" descr="http://www.waynecountyschools.org/334/lib/334/STAR.jpg"/>
          <p:cNvPicPr/>
          <p:nvPr/>
        </p:nvPicPr>
        <p:blipFill>
          <a:blip r:embed="rId1"/>
          <a:stretch/>
        </p:blipFill>
        <p:spPr>
          <a:xfrm>
            <a:off x="2627280" y="1905120"/>
            <a:ext cx="3457440" cy="3908160"/>
          </a:xfrm>
          <a:prstGeom prst="rect">
            <a:avLst/>
          </a:prstGeom>
          <a:ln w="0">
            <a:noFill/>
          </a:ln>
        </p:spPr>
      </p:pic>
      <p:pic>
        <p:nvPicPr>
          <p:cNvPr id="616" name="Picture 2" descr="http://www.estrellita.com/images/logo.gif"/>
          <p:cNvPicPr/>
          <p:nvPr/>
        </p:nvPicPr>
        <p:blipFill>
          <a:blip r:embed="rId2"/>
          <a:stretch/>
        </p:blipFill>
        <p:spPr>
          <a:xfrm>
            <a:off x="3882960" y="3133800"/>
            <a:ext cx="1494000" cy="138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7b9899"/>
                </a:solidFill>
                <a:latin typeface="Georgia"/>
              </a:rPr>
              <a:t>Mezclando Sonidos Iniciales Con Otros Sonidos</a:t>
            </a:r>
            <a:endParaRPr b="0" lang="en-US" sz="24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53" name="Content Placeholder 3" descr=""/>
          <p:cNvPicPr/>
          <p:nvPr/>
        </p:nvPicPr>
        <p:blipFill>
          <a:blip r:embed="rId1"/>
          <a:stretch/>
        </p:blipFill>
        <p:spPr>
          <a:xfrm>
            <a:off x="291960" y="1523880"/>
            <a:ext cx="8566200" cy="458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4" name="Picture 10" descr="http://startupblog.files.wordpress.com/2008/01/manila-envelope.jpg"/>
          <p:cNvPicPr/>
          <p:nvPr/>
        </p:nvPicPr>
        <p:blipFill>
          <a:blip r:embed="rId1"/>
          <a:srcRect l="13157" t="13538" r="13157" b="13161"/>
          <a:stretch/>
        </p:blipFill>
        <p:spPr>
          <a:xfrm>
            <a:off x="4724280" y="1600200"/>
            <a:ext cx="3353040" cy="4670280"/>
          </a:xfrm>
          <a:prstGeom prst="rect">
            <a:avLst/>
          </a:prstGeom>
          <a:ln w="0">
            <a:noFill/>
          </a:ln>
        </p:spPr>
      </p:pic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b9899"/>
                </a:solidFill>
                <a:latin typeface="Georgia"/>
              </a:rPr>
              <a:t>Mezclando Sonidos: la supervisión del progreso</a:t>
            </a:r>
            <a:endParaRPr b="0" lang="en-US" sz="24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56" name="Picture 7" descr=""/>
          <p:cNvPicPr/>
          <p:nvPr/>
        </p:nvPicPr>
        <p:blipFill>
          <a:blip r:embed="rId2"/>
          <a:stretch/>
        </p:blipFill>
        <p:spPr>
          <a:xfrm>
            <a:off x="7392960" y="1676520"/>
            <a:ext cx="1446120" cy="1869840"/>
          </a:xfrm>
          <a:prstGeom prst="rect">
            <a:avLst/>
          </a:prstGeom>
          <a:ln cap="sq" w="324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657" name="Content Placeholder 3"/>
          <p:cNvSpPr/>
          <p:nvPr/>
        </p:nvSpPr>
        <p:spPr>
          <a:xfrm>
            <a:off x="304920" y="1676520"/>
            <a:ext cx="41148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d1634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Georgia"/>
              </a:rPr>
              <a:t>Sílab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d1634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Georgia"/>
              </a:rPr>
              <a:t>Palabr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d1634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Georgia"/>
              </a:rPr>
              <a:t>Orac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d1634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Georgia"/>
              </a:rPr>
              <a:t>Cuen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8" name="Picture 7" descr=""/>
          <p:cNvPicPr/>
          <p:nvPr/>
        </p:nvPicPr>
        <p:blipFill>
          <a:blip r:embed="rId3"/>
          <a:stretch/>
        </p:blipFill>
        <p:spPr>
          <a:xfrm>
            <a:off x="5022720" y="2359080"/>
            <a:ext cx="2756160" cy="3743280"/>
          </a:xfrm>
          <a:prstGeom prst="rect">
            <a:avLst/>
          </a:prstGeom>
          <a:ln w="0">
            <a:noFill/>
          </a:ln>
        </p:spPr>
      </p:pic>
      <p:pic>
        <p:nvPicPr>
          <p:cNvPr id="659" name="Picture 4" descr=""/>
          <p:cNvPicPr/>
          <p:nvPr/>
        </p:nvPicPr>
        <p:blipFill>
          <a:blip r:embed="rId4"/>
          <a:stretch/>
        </p:blipFill>
        <p:spPr>
          <a:xfrm rot="16200000">
            <a:off x="6998400" y="4507560"/>
            <a:ext cx="2005200" cy="15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300" spc="-1" strike="noStrike">
                <a:solidFill>
                  <a:srgbClr val="7b9899"/>
                </a:solidFill>
                <a:latin typeface="Georgia"/>
              </a:rPr>
              <a:t>Uso de la Escritura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61" name="Picture 7" descr="http://myers.salkeiz.k12.or.us/images/student_writing.jpg"/>
          <p:cNvPicPr/>
          <p:nvPr/>
        </p:nvPicPr>
        <p:blipFill>
          <a:blip r:embed="rId1"/>
          <a:stretch/>
        </p:blipFill>
        <p:spPr>
          <a:xfrm>
            <a:off x="5867280" y="4114800"/>
            <a:ext cx="2921040" cy="1946160"/>
          </a:xfrm>
          <a:prstGeom prst="rect">
            <a:avLst/>
          </a:prstGeom>
          <a:ln w="0">
            <a:noFill/>
          </a:ln>
        </p:spPr>
      </p:pic>
      <p:pic>
        <p:nvPicPr>
          <p:cNvPr id="662" name="Picture 6" descr="http://blog.oregonlive.com/washingtoncounty_impact/2009/04/large_kind1.JPG"/>
          <p:cNvPicPr/>
          <p:nvPr/>
        </p:nvPicPr>
        <p:blipFill>
          <a:blip r:embed="rId2"/>
          <a:stretch/>
        </p:blipFill>
        <p:spPr>
          <a:xfrm>
            <a:off x="366840" y="1905120"/>
            <a:ext cx="3595680" cy="2286000"/>
          </a:xfrm>
          <a:prstGeom prst="rect">
            <a:avLst/>
          </a:prstGeom>
          <a:ln w="0">
            <a:noFill/>
          </a:ln>
        </p:spPr>
      </p:pic>
      <p:pic>
        <p:nvPicPr>
          <p:cNvPr id="663" name="Diagram 11" descr=""/>
          <p:cNvPicPr/>
          <p:nvPr/>
        </p:nvPicPr>
        <p:blipFill>
          <a:blip r:embed="rId3"/>
          <a:stretch/>
        </p:blipFill>
        <p:spPr>
          <a:xfrm>
            <a:off x="2273400" y="2359080"/>
            <a:ext cx="4219560" cy="40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7b9899"/>
                </a:solidFill>
                <a:latin typeface="Georgia"/>
              </a:rPr>
              <a:t>Apoyo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65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66" name="Picture 14" descr="http://www.rcowen.com/RCOADVPic/ParentChildReadingrs.jpg"/>
          <p:cNvPicPr/>
          <p:nvPr/>
        </p:nvPicPr>
        <p:blipFill>
          <a:blip r:embed="rId1"/>
          <a:stretch/>
        </p:blipFill>
        <p:spPr>
          <a:xfrm>
            <a:off x="6445080" y="2743200"/>
            <a:ext cx="2165400" cy="1303200"/>
          </a:xfrm>
          <a:prstGeom prst="rect">
            <a:avLst/>
          </a:prstGeom>
          <a:ln w="0">
            <a:noFill/>
          </a:ln>
        </p:spPr>
      </p:pic>
      <p:pic>
        <p:nvPicPr>
          <p:cNvPr id="667" name="Diagram 8" descr=""/>
          <p:cNvPicPr/>
          <p:nvPr/>
        </p:nvPicPr>
        <p:blipFill>
          <a:blip r:embed="rId2"/>
          <a:stretch/>
        </p:blipFill>
        <p:spPr>
          <a:xfrm>
            <a:off x="1822320" y="1865160"/>
            <a:ext cx="5578560" cy="3633840"/>
          </a:xfrm>
          <a:prstGeom prst="rect">
            <a:avLst/>
          </a:prstGeom>
          <a:ln w="0">
            <a:noFill/>
          </a:ln>
        </p:spPr>
      </p:pic>
      <p:pic>
        <p:nvPicPr>
          <p:cNvPr id="668" name="Picture 10" descr="http://www.hewlett.org/uploads/images/deeper_learning.jpg"/>
          <p:cNvPicPr/>
          <p:nvPr/>
        </p:nvPicPr>
        <p:blipFill>
          <a:blip r:embed="rId3"/>
          <a:stretch/>
        </p:blipFill>
        <p:spPr>
          <a:xfrm>
            <a:off x="762120" y="2560680"/>
            <a:ext cx="2270160" cy="14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2943000" y="4952520"/>
            <a:ext cx="597204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b86"/>
                </a:solidFill>
                <a:latin typeface="Georgia"/>
              </a:rPr>
              <a:t>Nombre</a:t>
            </a:r>
            <a:r>
              <a:rPr b="1" lang="en-US" sz="2000" spc="-1" strike="noStrike">
                <a:solidFill>
                  <a:srgbClr val="646b86"/>
                </a:solidFill>
                <a:latin typeface="Georgia"/>
              </a:rPr>
              <a:t>	</a:t>
            </a:r>
            <a:r>
              <a:rPr b="1" lang="en-US" sz="2000" spc="-1" strike="noStrike">
                <a:solidFill>
                  <a:srgbClr val="646b86"/>
                </a:solidFill>
                <a:latin typeface="Georgia"/>
              </a:rPr>
              <a:t>        </a:t>
            </a:r>
            <a:r>
              <a:rPr b="1" lang="en-US" sz="2000" spc="-1" strike="noStrike">
                <a:solidFill>
                  <a:srgbClr val="646b86"/>
                </a:solidFill>
                <a:latin typeface="Georgia"/>
              </a:rPr>
              <a:t>	</a:t>
            </a:r>
            <a:r>
              <a:rPr b="1" lang="en-US" sz="2000" spc="-1" strike="noStrike">
                <a:solidFill>
                  <a:srgbClr val="646b86"/>
                </a:solidFill>
                <a:latin typeface="Georgia"/>
              </a:rPr>
              <a:t>Grado</a:t>
            </a:r>
            <a:br>
              <a:rPr sz="2000"/>
            </a:br>
            <a:endParaRPr b="0" lang="en-US" sz="2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4386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eorgia"/>
              </a:rPr>
              <a:t>Gracias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spcBef>
                <a:spcPts val="7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spcBef>
                <a:spcPts val="7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spcBef>
                <a:spcPts val="7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eorgia"/>
              </a:rPr>
              <a:t>Maestra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eorgia"/>
              </a:rPr>
              <a:t>Bilingüe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spcBef>
                <a:spcPts val="7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71" name="Picture 6" descr="http://www.unbound.co.in/images/support.jpg"/>
          <p:cNvPicPr/>
          <p:nvPr/>
        </p:nvPicPr>
        <p:blipFill>
          <a:blip r:embed="rId1"/>
          <a:stretch/>
        </p:blipFill>
        <p:spPr>
          <a:xfrm>
            <a:off x="3962520" y="914400"/>
            <a:ext cx="373356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300" spc="-1" strike="noStrike">
                <a:solidFill>
                  <a:srgbClr val="7b9899"/>
                </a:solidFill>
                <a:latin typeface="Georgia"/>
              </a:rPr>
              <a:t>Orden del Día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8" name=""/>
          <p:cNvSpPr txBox="1"/>
          <p:nvPr/>
        </p:nvSpPr>
        <p:spPr>
          <a:xfrm>
            <a:off x="301320" y="1527120"/>
            <a:ext cx="8504280" cy="495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33660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Georgia"/>
              </a:rPr>
              <a:t>Dar la bienvenida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457200" indent="336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marL="457200" indent="33660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Georgia"/>
              </a:rPr>
              <a:t>Establecer el contexto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457200" indent="336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marL="457200" indent="33660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Georgia"/>
              </a:rPr>
              <a:t>Sonidos Iniciale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2" marL="730080" indent="336600">
              <a:spcBef>
                <a:spcPts val="451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Georgia"/>
              </a:rPr>
              <a:t>Cantar los sonidos iniciales con los movimientos de la mano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lvl="2" marL="730080" indent="336600">
              <a:spcBef>
                <a:spcPts val="451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Georgia"/>
              </a:rPr>
              <a:t>La supervisión del progreso          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lvl="2" marL="730080" indent="336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marL="457200" indent="33660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Georgia"/>
              </a:rPr>
              <a:t>Mezclando sonidos iniciales con otros sonidos       (sílabas, palabras, oraciones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2" marL="730080" indent="336600">
              <a:spcBef>
                <a:spcPts val="451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Georgia"/>
              </a:rPr>
              <a:t>La supervisión del progreso          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lvl="2" marL="730080" indent="336600"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marL="457200" indent="33660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Georgia"/>
              </a:rPr>
              <a:t>Uso de la escritura</a:t>
            </a:r>
            <a:r>
              <a:rPr b="0" lang="es-MX" sz="2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457200" indent="336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marL="457200" indent="33660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Georgia"/>
              </a:rPr>
              <a:t>¿Quiénes son los que apoyan?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457200" indent="336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300" spc="-1" strike="noStrike">
                <a:solidFill>
                  <a:srgbClr val="7b9899"/>
                </a:solidFill>
                <a:latin typeface="Georgia"/>
              </a:rPr>
              <a:t>Reflexión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20" name="Picture 20" descr="http://www.lafayettecountyhealth.org/MomChild.jpg"/>
          <p:cNvPicPr/>
          <p:nvPr/>
        </p:nvPicPr>
        <p:blipFill>
          <a:blip r:embed="rId1"/>
          <a:stretch/>
        </p:blipFill>
        <p:spPr>
          <a:xfrm>
            <a:off x="2209680" y="3200400"/>
            <a:ext cx="2057400" cy="2057400"/>
          </a:xfrm>
          <a:prstGeom prst="rect">
            <a:avLst/>
          </a:prstGeom>
          <a:ln w="0">
            <a:noFill/>
          </a:ln>
        </p:spPr>
      </p:pic>
      <p:pic>
        <p:nvPicPr>
          <p:cNvPr id="621" name="Picture 4" descr="Parent and child reading together"/>
          <p:cNvPicPr/>
          <p:nvPr/>
        </p:nvPicPr>
        <p:blipFill>
          <a:blip r:embed="rId2"/>
          <a:stretch/>
        </p:blipFill>
        <p:spPr>
          <a:xfrm>
            <a:off x="4881600" y="3886200"/>
            <a:ext cx="1747800" cy="2271600"/>
          </a:xfrm>
          <a:prstGeom prst="rect">
            <a:avLst/>
          </a:prstGeom>
          <a:ln w="0">
            <a:noFill/>
          </a:ln>
        </p:spPr>
      </p:pic>
      <p:sp>
        <p:nvSpPr>
          <p:cNvPr id="622" name="TextBox 5"/>
          <p:cNvSpPr/>
          <p:nvPr/>
        </p:nvSpPr>
        <p:spPr>
          <a:xfrm>
            <a:off x="304920" y="1600200"/>
            <a:ext cx="8610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d16349"/>
                </a:solidFill>
                <a:latin typeface="Arial"/>
              </a:rPr>
              <a:t>Comparta una memoria de la niñez de una experiencia especial de la lectur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722160" y="5331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Georgia"/>
              </a:rPr>
              <a:t>¿Qué es Estrellita?</a:t>
            </a:r>
            <a:br>
              <a:rPr sz="4200"/>
            </a:br>
            <a:endParaRPr b="0" lang="en-US" sz="42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24" name="Picture 9" descr="http://www.fancyamortgage.co.uk/Page_Category_Images/key%20worker.jpg"/>
          <p:cNvPicPr/>
          <p:nvPr/>
        </p:nvPicPr>
        <p:blipFill>
          <a:blip r:embed="rId1"/>
          <a:srcRect l="41412" t="0" r="5892" b="0"/>
          <a:stretch/>
        </p:blipFill>
        <p:spPr>
          <a:xfrm>
            <a:off x="3124080" y="2895480"/>
            <a:ext cx="2590920" cy="32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7b9899"/>
                </a:solidFill>
                <a:latin typeface="Georgia"/>
              </a:rPr>
              <a:t>Integración de Estrellita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26" name="Picture 7" descr="http://www.wrapables.com/images/product/A54817.jpg"/>
          <p:cNvPicPr/>
          <p:nvPr/>
        </p:nvPicPr>
        <p:blipFill>
          <a:blip r:embed="rId1"/>
          <a:stretch/>
        </p:blipFill>
        <p:spPr>
          <a:xfrm>
            <a:off x="2666880" y="2438280"/>
            <a:ext cx="373392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80880" y="1066680"/>
            <a:ext cx="236232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ff"/>
                </a:solidFill>
                <a:latin typeface="Georgia"/>
              </a:rPr>
              <a:t>Sonidos Iniciales</a:t>
            </a: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236232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29" name="Picture 4" descr="\\prdechome03\users\other\116706\My Documents\My Pictures\Estrellita Pictures\IMG_0923.JPG"/>
          <p:cNvPicPr/>
          <p:nvPr/>
        </p:nvPicPr>
        <p:blipFill>
          <a:blip r:embed="rId1"/>
          <a:srcRect l="7034" t="7549" r="3020" b="9183"/>
          <a:stretch/>
        </p:blipFill>
        <p:spPr>
          <a:xfrm>
            <a:off x="3962520" y="1066680"/>
            <a:ext cx="4038480" cy="49831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300" spc="-1" strike="noStrike">
                <a:solidFill>
                  <a:srgbClr val="7b9899"/>
                </a:solidFill>
                <a:latin typeface="Georgia"/>
              </a:rPr>
              <a:t>Sonidos Iniciales y Los Sentido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31" name="Picture 4" descr="MPj03091660000[1]"/>
          <p:cNvPicPr/>
          <p:nvPr/>
        </p:nvPicPr>
        <p:blipFill>
          <a:blip r:embed="rId1"/>
          <a:stretch/>
        </p:blipFill>
        <p:spPr>
          <a:xfrm>
            <a:off x="5479920" y="4400640"/>
            <a:ext cx="3444840" cy="1933560"/>
          </a:xfrm>
          <a:prstGeom prst="rect">
            <a:avLst/>
          </a:prstGeom>
          <a:ln w="0">
            <a:noFill/>
          </a:ln>
        </p:spPr>
      </p:pic>
      <p:sp>
        <p:nvSpPr>
          <p:cNvPr id="632" name="AutoShape 11"/>
          <p:cNvSpPr/>
          <p:nvPr/>
        </p:nvSpPr>
        <p:spPr>
          <a:xfrm>
            <a:off x="155520" y="-884160"/>
            <a:ext cx="246708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3" name="Picture 9" descr="http://www.idaholions.org/images/eyes.jpg"/>
          <p:cNvPicPr/>
          <p:nvPr/>
        </p:nvPicPr>
        <p:blipFill>
          <a:blip r:embed="rId2"/>
          <a:stretch/>
        </p:blipFill>
        <p:spPr>
          <a:xfrm>
            <a:off x="360360" y="1517760"/>
            <a:ext cx="4522680" cy="285912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13" descr="http://ultimateears.com/uploads/assets/products/500/ultimate-ears-500_5.jpg"/>
          <p:cNvPicPr/>
          <p:nvPr/>
        </p:nvPicPr>
        <p:blipFill>
          <a:blip r:embed="rId3"/>
          <a:stretch/>
        </p:blipFill>
        <p:spPr>
          <a:xfrm>
            <a:off x="3651120" y="3273480"/>
            <a:ext cx="2451240" cy="245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380880" y="1066680"/>
            <a:ext cx="236232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ff"/>
                </a:solidFill>
                <a:latin typeface="Georgia"/>
              </a:rPr>
              <a:t>Sonidos Iniciales</a:t>
            </a: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236232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37" name="Picture 4" descr="\\prdechome03\users\other\116706\My Documents\My Pictures\Estrellita Pictures\IMG_0923.JPG"/>
          <p:cNvPicPr/>
          <p:nvPr/>
        </p:nvPicPr>
        <p:blipFill>
          <a:blip r:embed="rId1"/>
          <a:srcRect l="7034" t="7549" r="3020" b="9183"/>
          <a:stretch/>
        </p:blipFill>
        <p:spPr>
          <a:xfrm>
            <a:off x="3962520" y="1066680"/>
            <a:ext cx="4038480" cy="49831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7b9899"/>
                </a:solidFill>
                <a:latin typeface="Georgia"/>
              </a:rPr>
              <a:t>Sonidos Iniciales: </a:t>
            </a:r>
            <a:r>
              <a:rPr b="1" lang="es-MX" sz="3300" spc="-1" strike="noStrike">
                <a:solidFill>
                  <a:srgbClr val="7b9899"/>
                </a:solidFill>
                <a:latin typeface="Georgia"/>
              </a:rPr>
              <a:t>Tarea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39" name="Picture 10" descr="http://startupblog.files.wordpress.com/2008/01/manila-envelope.jpg"/>
          <p:cNvPicPr/>
          <p:nvPr/>
        </p:nvPicPr>
        <p:blipFill>
          <a:blip r:embed="rId1"/>
          <a:srcRect l="13157" t="13538" r="13157" b="13161"/>
          <a:stretch/>
        </p:blipFill>
        <p:spPr>
          <a:xfrm>
            <a:off x="685800" y="1600200"/>
            <a:ext cx="3352680" cy="4670280"/>
          </a:xfrm>
          <a:prstGeom prst="rect">
            <a:avLst/>
          </a:prstGeom>
          <a:ln w="0">
            <a:noFill/>
          </a:ln>
        </p:spPr>
      </p:pic>
      <p:pic>
        <p:nvPicPr>
          <p:cNvPr id="640" name="Picture 12" descr=""/>
          <p:cNvPicPr/>
          <p:nvPr/>
        </p:nvPicPr>
        <p:blipFill>
          <a:blip r:embed="rId2"/>
          <a:stretch/>
        </p:blipFill>
        <p:spPr>
          <a:xfrm>
            <a:off x="1060560" y="2359080"/>
            <a:ext cx="2670120" cy="3591000"/>
          </a:xfrm>
          <a:prstGeom prst="rect">
            <a:avLst/>
          </a:prstGeom>
          <a:ln w="0">
            <a:noFill/>
          </a:ln>
        </p:spPr>
      </p:pic>
      <p:sp>
        <p:nvSpPr>
          <p:cNvPr id="641" name="Oval 4"/>
          <p:cNvSpPr/>
          <p:nvPr/>
        </p:nvSpPr>
        <p:spPr>
          <a:xfrm>
            <a:off x="1371600" y="2666880"/>
            <a:ext cx="609480" cy="1067040"/>
          </a:xfrm>
          <a:prstGeom prst="ellipse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5-Point Star 6"/>
          <p:cNvSpPr/>
          <p:nvPr/>
        </p:nvSpPr>
        <p:spPr>
          <a:xfrm>
            <a:off x="1143000" y="2666880"/>
            <a:ext cx="228600" cy="304920"/>
          </a:xfrm>
          <a:custGeom>
            <a:avLst/>
            <a:gdLst>
              <a:gd name="textAreaLeft" fmla="*/ 70560 w 228600"/>
              <a:gd name="textAreaRight" fmla="*/ 158040 w 228600"/>
              <a:gd name="textAreaTop" fmla="*/ 116280 h 304920"/>
              <a:gd name="textAreaBottom" fmla="*/ 232920 h 304920"/>
            </a:gdLst>
            <a:ahLst/>
            <a:rect l="textAreaLeft" t="textAreaTop" r="textAreaRight" b="textAreaBottom"/>
            <a:pathLst>
              <a:path w="228600" h="304800">
                <a:moveTo>
                  <a:pt x="0" y="116423"/>
                </a:moveTo>
                <a:lnTo>
                  <a:pt x="87318" y="116424"/>
                </a:lnTo>
                <a:lnTo>
                  <a:pt x="114300" y="0"/>
                </a:lnTo>
                <a:lnTo>
                  <a:pt x="141282" y="116424"/>
                </a:lnTo>
                <a:lnTo>
                  <a:pt x="228600" y="116423"/>
                </a:lnTo>
                <a:lnTo>
                  <a:pt x="157958" y="188376"/>
                </a:lnTo>
                <a:lnTo>
                  <a:pt x="184941" y="304799"/>
                </a:lnTo>
                <a:lnTo>
                  <a:pt x="114300" y="232845"/>
                </a:lnTo>
                <a:lnTo>
                  <a:pt x="43659" y="304799"/>
                </a:lnTo>
                <a:lnTo>
                  <a:pt x="70642" y="188376"/>
                </a:lnTo>
                <a:close/>
              </a:path>
            </a:pathLst>
          </a:custGeom>
          <a:noFill/>
          <a:ln w="38160">
            <a:solidFill>
              <a:srgbClr val="ffff00"/>
            </a:solidFill>
            <a:prstDash val="sysDash"/>
            <a:round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5-Point Star 7"/>
          <p:cNvSpPr/>
          <p:nvPr/>
        </p:nvSpPr>
        <p:spPr>
          <a:xfrm>
            <a:off x="1143000" y="3581280"/>
            <a:ext cx="228600" cy="304920"/>
          </a:xfrm>
          <a:custGeom>
            <a:avLst/>
            <a:gdLst>
              <a:gd name="textAreaLeft" fmla="*/ 70560 w 228600"/>
              <a:gd name="textAreaRight" fmla="*/ 158040 w 228600"/>
              <a:gd name="textAreaTop" fmla="*/ 116280 h 304920"/>
              <a:gd name="textAreaBottom" fmla="*/ 232920 h 304920"/>
            </a:gdLst>
            <a:ahLst/>
            <a:rect l="textAreaLeft" t="textAreaTop" r="textAreaRight" b="textAreaBottom"/>
            <a:pathLst>
              <a:path w="228600" h="304800">
                <a:moveTo>
                  <a:pt x="0" y="116423"/>
                </a:moveTo>
                <a:lnTo>
                  <a:pt x="87318" y="116424"/>
                </a:lnTo>
                <a:lnTo>
                  <a:pt x="114300" y="0"/>
                </a:lnTo>
                <a:lnTo>
                  <a:pt x="141282" y="116424"/>
                </a:lnTo>
                <a:lnTo>
                  <a:pt x="228600" y="116423"/>
                </a:lnTo>
                <a:lnTo>
                  <a:pt x="157958" y="188376"/>
                </a:lnTo>
                <a:lnTo>
                  <a:pt x="184941" y="304799"/>
                </a:lnTo>
                <a:lnTo>
                  <a:pt x="114300" y="232845"/>
                </a:lnTo>
                <a:lnTo>
                  <a:pt x="43659" y="304799"/>
                </a:lnTo>
                <a:lnTo>
                  <a:pt x="70642" y="188376"/>
                </a:lnTo>
                <a:close/>
              </a:path>
            </a:pathLst>
          </a:custGeom>
          <a:noFill/>
          <a:ln w="38160">
            <a:solidFill>
              <a:srgbClr val="ffff00"/>
            </a:solidFill>
            <a:prstDash val="sysDash"/>
            <a:round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5-Point Star 8"/>
          <p:cNvSpPr/>
          <p:nvPr/>
        </p:nvSpPr>
        <p:spPr>
          <a:xfrm>
            <a:off x="1143000" y="4343400"/>
            <a:ext cx="228600" cy="304920"/>
          </a:xfrm>
          <a:custGeom>
            <a:avLst/>
            <a:gdLst>
              <a:gd name="textAreaLeft" fmla="*/ 70560 w 228600"/>
              <a:gd name="textAreaRight" fmla="*/ 158040 w 228600"/>
              <a:gd name="textAreaTop" fmla="*/ 116280 h 304920"/>
              <a:gd name="textAreaBottom" fmla="*/ 232920 h 304920"/>
            </a:gdLst>
            <a:ahLst/>
            <a:rect l="textAreaLeft" t="textAreaTop" r="textAreaRight" b="textAreaBottom"/>
            <a:pathLst>
              <a:path w="228600" h="304800">
                <a:moveTo>
                  <a:pt x="0" y="116423"/>
                </a:moveTo>
                <a:lnTo>
                  <a:pt x="87318" y="116424"/>
                </a:lnTo>
                <a:lnTo>
                  <a:pt x="114300" y="0"/>
                </a:lnTo>
                <a:lnTo>
                  <a:pt x="141282" y="116424"/>
                </a:lnTo>
                <a:lnTo>
                  <a:pt x="228600" y="116423"/>
                </a:lnTo>
                <a:lnTo>
                  <a:pt x="157958" y="188376"/>
                </a:lnTo>
                <a:lnTo>
                  <a:pt x="184941" y="304799"/>
                </a:lnTo>
                <a:lnTo>
                  <a:pt x="114300" y="232845"/>
                </a:lnTo>
                <a:lnTo>
                  <a:pt x="43659" y="304799"/>
                </a:lnTo>
                <a:lnTo>
                  <a:pt x="70642" y="188376"/>
                </a:lnTo>
                <a:close/>
              </a:path>
            </a:pathLst>
          </a:custGeom>
          <a:noFill/>
          <a:ln w="38160">
            <a:solidFill>
              <a:srgbClr val="ffff00"/>
            </a:solidFill>
            <a:prstDash val="sysDash"/>
            <a:round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5" name="Picture 12" descr=""/>
          <p:cNvPicPr/>
          <p:nvPr/>
        </p:nvPicPr>
        <p:blipFill>
          <a:blip r:embed="rId3"/>
          <a:stretch/>
        </p:blipFill>
        <p:spPr>
          <a:xfrm>
            <a:off x="5181480" y="1828800"/>
            <a:ext cx="3257640" cy="4206960"/>
          </a:xfrm>
          <a:prstGeom prst="rect">
            <a:avLst/>
          </a:prstGeom>
          <a:ln w="0">
            <a:noFill/>
          </a:ln>
        </p:spPr>
      </p:pic>
      <p:sp>
        <p:nvSpPr>
          <p:cNvPr id="646" name="Oval 10"/>
          <p:cNvSpPr/>
          <p:nvPr/>
        </p:nvSpPr>
        <p:spPr>
          <a:xfrm>
            <a:off x="5638680" y="2225520"/>
            <a:ext cx="762120" cy="1067040"/>
          </a:xfrm>
          <a:prstGeom prst="ellipse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5-Point Star 11"/>
          <p:cNvSpPr/>
          <p:nvPr/>
        </p:nvSpPr>
        <p:spPr>
          <a:xfrm>
            <a:off x="5257800" y="2149560"/>
            <a:ext cx="457200" cy="457200"/>
          </a:xfrm>
          <a:custGeom>
            <a:avLst/>
            <a:gdLst>
              <a:gd name="textAreaLeft" fmla="*/ 141120 w 457200"/>
              <a:gd name="textAreaRight" fmla="*/ 316080 w 457200"/>
              <a:gd name="textAreaTop" fmla="*/ 174600 h 457200"/>
              <a:gd name="textAreaBottom" fmla="*/ 349200 h 457200"/>
            </a:gdLst>
            <a:ahLst/>
            <a:rect l="textAreaLeft" t="textAreaTop" r="textAreaRight" b="textAreaBottom"/>
            <a:pathLst>
              <a:path w="457200" h="457200">
                <a:moveTo>
                  <a:pt x="0" y="174634"/>
                </a:moveTo>
                <a:lnTo>
                  <a:pt x="174636" y="174636"/>
                </a:lnTo>
                <a:lnTo>
                  <a:pt x="228600" y="0"/>
                </a:lnTo>
                <a:lnTo>
                  <a:pt x="282564" y="174636"/>
                </a:lnTo>
                <a:lnTo>
                  <a:pt x="457200" y="174634"/>
                </a:lnTo>
                <a:lnTo>
                  <a:pt x="315916" y="282564"/>
                </a:lnTo>
                <a:lnTo>
                  <a:pt x="369883" y="457198"/>
                </a:lnTo>
                <a:lnTo>
                  <a:pt x="228600" y="349267"/>
                </a:lnTo>
                <a:lnTo>
                  <a:pt x="87317" y="457198"/>
                </a:lnTo>
                <a:lnTo>
                  <a:pt x="141284" y="282564"/>
                </a:lnTo>
                <a:close/>
              </a:path>
            </a:pathLst>
          </a:custGeom>
          <a:noFill/>
          <a:ln w="28440">
            <a:solidFill>
              <a:srgbClr val="ffff00"/>
            </a:solidFill>
            <a:prstDash val="sysDash"/>
            <a:round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5-Point Star 12"/>
          <p:cNvSpPr/>
          <p:nvPr/>
        </p:nvSpPr>
        <p:spPr>
          <a:xfrm>
            <a:off x="5257800" y="3139920"/>
            <a:ext cx="457200" cy="457200"/>
          </a:xfrm>
          <a:custGeom>
            <a:avLst/>
            <a:gdLst>
              <a:gd name="textAreaLeft" fmla="*/ 141120 w 457200"/>
              <a:gd name="textAreaRight" fmla="*/ 316080 w 457200"/>
              <a:gd name="textAreaTop" fmla="*/ 174600 h 457200"/>
              <a:gd name="textAreaBottom" fmla="*/ 349200 h 457200"/>
            </a:gdLst>
            <a:ahLst/>
            <a:rect l="textAreaLeft" t="textAreaTop" r="textAreaRight" b="textAreaBottom"/>
            <a:pathLst>
              <a:path w="457200" h="457200">
                <a:moveTo>
                  <a:pt x="0" y="174634"/>
                </a:moveTo>
                <a:lnTo>
                  <a:pt x="174636" y="174636"/>
                </a:lnTo>
                <a:lnTo>
                  <a:pt x="228600" y="0"/>
                </a:lnTo>
                <a:lnTo>
                  <a:pt x="282564" y="174636"/>
                </a:lnTo>
                <a:lnTo>
                  <a:pt x="457200" y="174634"/>
                </a:lnTo>
                <a:lnTo>
                  <a:pt x="315916" y="282564"/>
                </a:lnTo>
                <a:lnTo>
                  <a:pt x="369883" y="457198"/>
                </a:lnTo>
                <a:lnTo>
                  <a:pt x="228600" y="349267"/>
                </a:lnTo>
                <a:lnTo>
                  <a:pt x="87317" y="457198"/>
                </a:lnTo>
                <a:lnTo>
                  <a:pt x="141284" y="282564"/>
                </a:lnTo>
                <a:close/>
              </a:path>
            </a:pathLst>
          </a:custGeom>
          <a:noFill/>
          <a:ln w="28440">
            <a:solidFill>
              <a:srgbClr val="ffff00"/>
            </a:solidFill>
            <a:prstDash val="sysDash"/>
            <a:round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5-Point Star 13"/>
          <p:cNvSpPr/>
          <p:nvPr/>
        </p:nvSpPr>
        <p:spPr>
          <a:xfrm>
            <a:off x="5257800" y="4054320"/>
            <a:ext cx="457200" cy="457200"/>
          </a:xfrm>
          <a:custGeom>
            <a:avLst/>
            <a:gdLst>
              <a:gd name="textAreaLeft" fmla="*/ 141120 w 457200"/>
              <a:gd name="textAreaRight" fmla="*/ 316080 w 457200"/>
              <a:gd name="textAreaTop" fmla="*/ 174600 h 457200"/>
              <a:gd name="textAreaBottom" fmla="*/ 349200 h 457200"/>
            </a:gdLst>
            <a:ahLst/>
            <a:rect l="textAreaLeft" t="textAreaTop" r="textAreaRight" b="textAreaBottom"/>
            <a:pathLst>
              <a:path w="457200" h="457200">
                <a:moveTo>
                  <a:pt x="0" y="174634"/>
                </a:moveTo>
                <a:lnTo>
                  <a:pt x="174636" y="174636"/>
                </a:lnTo>
                <a:lnTo>
                  <a:pt x="228600" y="0"/>
                </a:lnTo>
                <a:lnTo>
                  <a:pt x="282564" y="174636"/>
                </a:lnTo>
                <a:lnTo>
                  <a:pt x="457200" y="174634"/>
                </a:lnTo>
                <a:lnTo>
                  <a:pt x="315916" y="282564"/>
                </a:lnTo>
                <a:lnTo>
                  <a:pt x="369883" y="457198"/>
                </a:lnTo>
                <a:lnTo>
                  <a:pt x="228600" y="349267"/>
                </a:lnTo>
                <a:lnTo>
                  <a:pt x="87317" y="457198"/>
                </a:lnTo>
                <a:lnTo>
                  <a:pt x="141284" y="282564"/>
                </a:lnTo>
                <a:close/>
              </a:path>
            </a:pathLst>
          </a:custGeom>
          <a:noFill/>
          <a:ln w="28440">
            <a:solidFill>
              <a:srgbClr val="ffff00"/>
            </a:solidFill>
            <a:prstDash val="sysDash"/>
            <a:round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TextBox 14"/>
          <p:cNvSpPr/>
          <p:nvPr/>
        </p:nvSpPr>
        <p:spPr>
          <a:xfrm>
            <a:off x="304920" y="1447920"/>
            <a:ext cx="259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Georgia"/>
              </a:rPr>
              <a:t>Hog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TextBox 15"/>
          <p:cNvSpPr/>
          <p:nvPr/>
        </p:nvSpPr>
        <p:spPr>
          <a:xfrm>
            <a:off x="4952880" y="144792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En </a:t>
            </a:r>
            <a:r>
              <a:rPr b="1" lang="es-MX" sz="3200" spc="-1" strike="noStrike">
                <a:solidFill>
                  <a:srgbClr val="000000"/>
                </a:solidFill>
                <a:latin typeface="Georgia"/>
              </a:rPr>
              <a:t>cl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15:55:39Z</dcterms:created>
  <dc:creator>116706</dc:creator>
  <dc:description/>
  <dc:language>en-US</dc:language>
  <cp:lastModifiedBy>116706</cp:lastModifiedBy>
  <dcterms:modified xsi:type="dcterms:W3CDTF">2011-02-22T20:43:15Z</dcterms:modified>
  <cp:revision>392</cp:revision>
  <dc:subject/>
  <dc:title>Estrellita</dc:title>
</cp:coreProperties>
</file>